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963-1688-4EDD-B064-F994AD47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A02-8FA7-4927-863A-1A4008E6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A6E-1630-4CE2-A546-8ABCC6D2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2F1-DCEA-4392-A609-BBA65A99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867-12E3-48A8-A5B7-2B9AB9B7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69B-4A94-4513-98A1-C7A5FB98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75E-811C-4D10-A1E3-5BAE7B3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5C5-9B42-4FBB-A60C-0898447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C0E-616B-48DA-9C74-EA94E20A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F05-E823-4FF3-AE92-4FB842E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E69-A3CA-4C99-AFF3-8215B3F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485-A4CE-4E9E-9940-DCE959CC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65D0-40CF-471A-A9B9-D2B86D1EB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2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2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4:36:36Z</dcterms:created>
  <dc:creator>abeason</dc:creator>
  <dc:description/>
  <dc:language>en-US</dc:language>
  <cp:lastModifiedBy>abeason</cp:lastModifiedBy>
  <dcterms:modified xsi:type="dcterms:W3CDTF">2009-10-20T14:36:45Z</dcterms:modified>
  <cp:revision>1</cp:revision>
  <dc:subject/>
  <dc:title>Slide 1</dc:title>
</cp:coreProperties>
</file>